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1E3-10D6-4C9C-905E-5C36544F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128-2B22-4DE9-A2E8-6649461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E86-0E2F-4C30-8B81-5CC9B61B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722-6503-4277-9C42-E24B666A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F6D-F664-45AA-9FD0-EC995E97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59D-5E1C-48C3-ABC7-1294B90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DCF-68D6-4638-9BCF-6DFC4EC2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C02-73EC-42F3-A7BC-CEA4727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47F-723E-4BB5-B99A-FB19DD42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24B-9D41-449B-864F-E527DDD8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3A5-11B8-4DA3-8C0C-ED1A4B0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619-EE38-4995-923C-A33B3AFC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1D3-52CA-4121-85E3-1D13D62E2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aseen A. and Charlie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495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nd In North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Borders Arc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er Temperatures than Asia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 Continent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se You Didn’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ods of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Tactic for W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tiful Rain for Abund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ttract Sk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oohoo"/>
          <p:cNvPicPr/>
          <p:nvPr/>
        </p:nvPicPr>
        <p:blipFill>
          <a:blip r:embed="rId1"/>
          <a:stretch/>
        </p:blipFill>
        <p:spPr>
          <a:xfrm>
            <a:off x="4648320" y="14479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s of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lot of tourists!!!! (Due to cold wea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Dry Years, with less rain fall so wheat crops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’s C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Russia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ern Loc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a is CO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271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l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 Contin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74320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895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5053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58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id Continental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teppe— Found in South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Found In Areas Near The Black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56:58Z</dcterms:created>
  <dc:creator>QPS</dc:creator>
  <dc:description/>
  <dc:language>en-US</dc:language>
  <cp:lastModifiedBy> </cp:lastModifiedBy>
  <dcterms:modified xsi:type="dcterms:W3CDTF">2010-12-15T14:34:54Z</dcterms:modified>
  <cp:revision>4</cp:revision>
  <dc:subject/>
  <dc:title>Russia’s Climate</dc:title>
</cp:coreProperties>
</file>